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F0E0-0EB2-4FF1-8E65-793B28F1A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0F0-9569-4E4D-A514-166D54EC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7DDB-6DAE-4C0A-8733-A05114BA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C45-653F-4965-9E77-2D312932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276E-C18E-4089-A8E4-50B4E2B0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0CA-E79B-484E-A338-126B9EA8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CA9-8415-419D-B918-C040AC2F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466-D0B1-47C7-AA5F-41DD6B69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801-3235-4C7F-989E-C094D1E3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C296-BD31-4666-BF42-48F99322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1EA8-3708-4298-A0AA-F7507324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A6B-925C-44DB-8F2C-C0C7DB83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905-552F-4D68-B9D2-DB59C3D9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6C2-54DF-4A2D-9E19-D56AC292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EDA-395D-444A-B612-7EFB0467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5ED-C2F3-4A66-8A00-4732A727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CDB-C926-4EDF-845E-35FFA2EA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58D-76B4-4436-8B9F-2918C242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0732-9B07-472D-913E-620BB4BD7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8F43-152E-404E-AF4B-2C69597C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87D1-0F61-43EC-AA65-F95BE9B3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52CB-9F62-434A-B545-35356865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A8D-0B7F-458E-A49B-F62B8BE6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7DA2-373F-4AE5-8455-1692698E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91CA-B9D2-4FFA-B848-1B0E63D0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BB4-4E83-4786-A1B8-20C5C9B3C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ABCC-8B01-448C-8FEE-2978CF7F1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B40-85BF-4314-8C2B-E804F946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F82-B379-4851-B8D1-3A20AA8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F47-CCFE-45B7-A2B4-343D9081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528-EAD1-447B-B6B1-C244044C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158-98F1-4A33-96C7-89CE2DB2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30AE-BAB9-4D5D-9401-73B9418C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18FD-EA5A-4D51-B7DE-2F785DA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E39-BC52-4D4C-8361-7EF7860B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828A-74CE-47AA-8A45-77B28F3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0BDF-830F-4B24-A6E8-1C16D187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4150-8DD2-4F1F-81F8-622AFB0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F26-0A13-4D4F-99B3-03EB7A08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D119-10AC-4AD2-B89B-DFA93FF8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3987-8C49-4C99-BD38-8C2A41B0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7815-CF38-4D20-B555-8470FD2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A97-93FB-4C75-A7CE-3B7E764B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1412-915E-488A-A2EF-755E7A35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0FA-6F8C-40D8-BC0E-78A6771F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08ED-1EA4-4D0E-835F-546B2694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8FA3-66DA-466B-803A-4610ABDC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1B3F-3B42-499A-A4B0-A85326A2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5EA-DFEC-4347-95D1-4D8256C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350A-A417-49C0-A7F3-6E8A63C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A67D-48C9-4DE8-89CA-0507D320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2A21-27D2-433D-BA6B-F1B24AC4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68E0-6299-4CEE-AF1A-9FE44A5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3CC1-7065-4EB7-8D01-9ADF2525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E144-7F8E-4558-B44A-2489DDB7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8C99-3AFC-43C6-8988-DFBE692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3624-46E8-4C5B-9CCB-720DD7BE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0F74-2EE4-47E8-9FF3-7FEE1EBC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7BF-585F-4508-85A7-BF100E13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B7F-2BF6-49B9-AC9A-2BF5D9A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3BB-0016-46E0-8D82-E40C7B2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A8C-1C6B-41A1-AFAA-EA8F149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FEF-FA60-451B-8399-ABA5A4EA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AWV00007"/>
          <p:cNvPicPr/>
          <p:nvPr/>
        </p:nvPicPr>
        <p:blipFill>
          <a:blip r:embed="rId2"/>
          <a:stretch/>
        </p:blipFill>
        <p:spPr>
          <a:xfrm>
            <a:off x="5549760" y="5715000"/>
            <a:ext cx="359424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AA29-93A5-4DA0-A380-8BBFBB805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D9B1-1C75-476D-8F0E-AB45A4393342}" type="slidenum"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ardinal"/>
          <p:cNvPicPr/>
          <p:nvPr/>
        </p:nvPicPr>
        <p:blipFill>
          <a:blip r:embed="rId2"/>
          <a:stretch/>
        </p:blipFill>
        <p:spPr>
          <a:xfrm>
            <a:off x="7543800" y="5029200"/>
            <a:ext cx="104760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AWV00007"/>
          <p:cNvPicPr/>
          <p:nvPr/>
        </p:nvPicPr>
        <p:blipFill>
          <a:blip r:embed="rId2"/>
          <a:stretch/>
        </p:blipFill>
        <p:spPr>
          <a:xfrm>
            <a:off x="228600" y="3795840"/>
            <a:ext cx="8915400" cy="283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Cardinal"/>
          <p:cNvPicPr/>
          <p:nvPr/>
        </p:nvPicPr>
        <p:blipFill>
          <a:blip r:embed="rId2"/>
          <a:stretch/>
        </p:blipFill>
        <p:spPr>
          <a:xfrm flipH="1">
            <a:off x="0" y="0"/>
            <a:ext cx="3029040" cy="23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F52C-B673-4E29-BBAF-1ACCC359F0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8000" y="1735200"/>
            <a:ext cx="734040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Arial"/>
              </a:rPr>
              <a:t>Cell Structures, Functions and Transport</a:t>
            </a:r>
            <a:endParaRPr b="1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Golgi Complex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e shipper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packages, modifies, and transports materials to different location inside/outside of the c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Appearanc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stack of pancak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Lysosomes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: circular, but bigger than ribosomes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Clean-up Crews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o break down food into particles the rest of the cell can use and to destroy old cell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The Powerhouse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Energy form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reaks down food to make ATP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52480" indent="-380880">
              <a:spcBef>
                <a:spcPts val="550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Palatino Linotype"/>
              </a:rPr>
              <a:t>ATP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:  is the major fuel for all cell activities that require energy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Mitochondria Inner Structure"/>
          <p:cNvPicPr/>
          <p:nvPr/>
        </p:nvPicPr>
        <p:blipFill>
          <a:blip r:embed="rId1"/>
          <a:stretch/>
        </p:blipFill>
        <p:spPr>
          <a:xfrm>
            <a:off x="2567160" y="1244520"/>
            <a:ext cx="444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2133720" y="3049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6629400" y="3473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57913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12952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6629400" y="2909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9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22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2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ow let’s talk about structures only found in PLANT Cells!!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8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25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26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27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28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30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2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33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4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5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36"/>
          <p:cNvSpPr/>
          <p:nvPr/>
        </p:nvSpPr>
        <p:spPr>
          <a:xfrm>
            <a:off x="1905120" y="2133720"/>
            <a:ext cx="129528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Vacuol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stores wa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is is what makes lettuce crisp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en there is no water, the plant wil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108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6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30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31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3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33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35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37"/>
          <p:cNvSpPr/>
          <p:nvPr/>
        </p:nvSpPr>
        <p:spPr>
          <a:xfrm flipV="1">
            <a:off x="5105520" y="2209680"/>
            <a:ext cx="13716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10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2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13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15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16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1066680" y="3352680"/>
            <a:ext cx="1905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Chloroplast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raps energy from the sun to produce food for the plant c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Green in color because of chlorophyll, which is a green pigmen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Chloroplasts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64" name="Picture 4" descr="chloropl"/>
          <p:cNvPicPr/>
          <p:nvPr/>
        </p:nvPicPr>
        <p:blipFill>
          <a:blip r:embed="rId1"/>
          <a:stretch/>
        </p:blipFill>
        <p:spPr>
          <a:xfrm>
            <a:off x="2819520" y="220500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bio_ch7_4819"/>
          <p:cNvPicPr/>
          <p:nvPr/>
        </p:nvPicPr>
        <p:blipFill>
          <a:blip r:embed="rId1"/>
          <a:stretch/>
        </p:blipFill>
        <p:spPr>
          <a:xfrm>
            <a:off x="2209680" y="1714680"/>
            <a:ext cx="4686480" cy="3466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295280" y="3049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990720" y="32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2"/>
          <p:cNvSpPr/>
          <p:nvPr/>
        </p:nvSpPr>
        <p:spPr>
          <a:xfrm flipV="1">
            <a:off x="5486400" y="2743200"/>
            <a:ext cx="137160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3"/>
          <p:cNvSpPr/>
          <p:nvPr/>
        </p:nvSpPr>
        <p:spPr>
          <a:xfrm flipH="1" flipV="1">
            <a:off x="5028840" y="3504960"/>
            <a:ext cx="1676520" cy="609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4"/>
          <p:cNvSpPr/>
          <p:nvPr/>
        </p:nvSpPr>
        <p:spPr>
          <a:xfrm flipV="1">
            <a:off x="4952880" y="1676160"/>
            <a:ext cx="762120" cy="99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5"/>
          <p:cNvSpPr/>
          <p:nvPr/>
        </p:nvSpPr>
        <p:spPr>
          <a:xfrm flipV="1">
            <a:off x="2666880" y="358092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16"/>
          <p:cNvSpPr/>
          <p:nvPr/>
        </p:nvSpPr>
        <p:spPr>
          <a:xfrm flipV="1">
            <a:off x="3276720" y="3581280"/>
            <a:ext cx="838080" cy="1447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5334120" y="3505320"/>
            <a:ext cx="1523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8"/>
          <p:cNvSpPr/>
          <p:nvPr/>
        </p:nvSpPr>
        <p:spPr>
          <a:xfrm flipV="1">
            <a:off x="5334120" y="2743200"/>
            <a:ext cx="144756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9"/>
          <p:cNvSpPr/>
          <p:nvPr/>
        </p:nvSpPr>
        <p:spPr>
          <a:xfrm flipV="1">
            <a:off x="5334120" y="2133360"/>
            <a:ext cx="144756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4952880" y="3657600"/>
            <a:ext cx="1447920" cy="99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4876920" y="4038480"/>
            <a:ext cx="761760" cy="12193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Cell Wall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provides support and protection to the cell membran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nd outside the cell membrane in plant cell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bio_ch7_4819"/>
          <p:cNvPicPr/>
          <p:nvPr/>
        </p:nvPicPr>
        <p:blipFill>
          <a:blip r:embed="rId1"/>
          <a:stretch/>
        </p:blipFill>
        <p:spPr>
          <a:xfrm>
            <a:off x="2209680" y="1676520"/>
            <a:ext cx="4686480" cy="34671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6"/>
          <p:cNvSpPr/>
          <p:nvPr/>
        </p:nvSpPr>
        <p:spPr>
          <a:xfrm>
            <a:off x="1219320" y="3049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Plant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990720" y="26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2590920" y="1386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1523880" y="2133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loropla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990720" y="3200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656400" y="38862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6438960" y="441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4"/>
          <p:cNvSpPr/>
          <p:nvPr/>
        </p:nvSpPr>
        <p:spPr>
          <a:xfrm>
            <a:off x="5542200" y="50292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926600" y="13716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1242000" y="41148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lgi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1832760" y="487692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hond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66294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20"/>
          <p:cNvSpPr/>
          <p:nvPr/>
        </p:nvSpPr>
        <p:spPr>
          <a:xfrm flipH="1">
            <a:off x="5410080" y="34290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21"/>
          <p:cNvSpPr/>
          <p:nvPr/>
        </p:nvSpPr>
        <p:spPr>
          <a:xfrm flipV="1">
            <a:off x="5486400" y="2666880"/>
            <a:ext cx="1371600" cy="533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23"/>
          <p:cNvSpPr/>
          <p:nvPr/>
        </p:nvSpPr>
        <p:spPr>
          <a:xfrm flipH="1" flipV="1">
            <a:off x="2133360" y="1523520"/>
            <a:ext cx="14475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1295280" y="1219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Oval 4"/>
          <p:cNvSpPr/>
          <p:nvPr/>
        </p:nvSpPr>
        <p:spPr>
          <a:xfrm>
            <a:off x="990720" y="1447920"/>
            <a:ext cx="4800600" cy="4952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3352680" y="1447920"/>
            <a:ext cx="5029200" cy="487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447920" y="304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Plant and Animal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9810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6483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37720" y="182880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Nucleu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The Control Center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holds the DNA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Part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latino Linotype"/>
              </a:rPr>
              <a:t>Nucleolu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:  dark spot in the middle of the nucleus that helps make ribosom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29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3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32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33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34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36"/>
          <p:cNvSpPr/>
          <p:nvPr/>
        </p:nvSpPr>
        <p:spPr>
          <a:xfrm flipV="1">
            <a:off x="1905120" y="3733560"/>
            <a:ext cx="144756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37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38"/>
          <p:cNvSpPr/>
          <p:nvPr/>
        </p:nvSpPr>
        <p:spPr>
          <a:xfrm>
            <a:off x="5943600" y="35812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39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 makes protein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nd in all cells, prokaryotic and eukaryotic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Eukaryotic Cell Organelles and Func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4040" y="1752480"/>
            <a:ext cx="804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alatino Linotype"/>
              </a:rPr>
              <a:t>Endoplasmic Reticulum (ER)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Nicknam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“Roads”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e internal delivery system of the cell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304920" y="35053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62940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5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7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8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9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7913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24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Endoplasmic Reticulum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ough ER: 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ough appearance because it has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helps make proteins, that’s why it has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mooth ER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O ribosom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makes fats or lipid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bio_ch7_4819b"/>
          <p:cNvPicPr/>
          <p:nvPr/>
        </p:nvPicPr>
        <p:blipFill>
          <a:blip r:embed="rId1"/>
          <a:stretch/>
        </p:blipFill>
        <p:spPr>
          <a:xfrm>
            <a:off x="1905120" y="1987560"/>
            <a:ext cx="4794120" cy="3803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743200" y="29844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5 Plant and Animal Ce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Animal Cel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182880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05740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ol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04920" y="3505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g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553080" y="3276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ooth Endoplasmic Reticul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579132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bos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1066680" y="4724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olgi Comple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477120" y="2514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ll Memb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6"/>
          <p:cNvSpPr/>
          <p:nvPr/>
        </p:nvSpPr>
        <p:spPr>
          <a:xfrm flipH="1" flipV="1">
            <a:off x="4495680" y="1828440"/>
            <a:ext cx="76320" cy="76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657600" y="138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18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9"/>
          <p:cNvSpPr/>
          <p:nvPr/>
        </p:nvSpPr>
        <p:spPr>
          <a:xfrm flipV="1">
            <a:off x="4876920" y="1828800"/>
            <a:ext cx="761760" cy="914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1"/>
          <p:cNvSpPr/>
          <p:nvPr/>
        </p:nvSpPr>
        <p:spPr>
          <a:xfrm flipH="1" flipV="1">
            <a:off x="5181120" y="4267080"/>
            <a:ext cx="1219320" cy="5335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2514600" y="297180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5867280" y="3048120"/>
            <a:ext cx="144792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0:05:12Z</dcterms:created>
  <dc:creator>Courtney</dc:creator>
  <dc:description/>
  <dc:language>en-US</dc:language>
  <cp:lastModifiedBy>Lyn Clarkson</cp:lastModifiedBy>
  <dcterms:modified xsi:type="dcterms:W3CDTF">2008-10-23T03:18:54Z</dcterms:modified>
  <cp:revision>44</cp:revision>
  <dc:subject/>
  <dc:title>Chapters 4 and 5  Cell Structures, Functions and Transport</dc:title>
</cp:coreProperties>
</file>